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94679"/>
        <c:axId val="66729704"/>
      </c:barChart>
      <c:catAx>
        <c:axId val="10694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29704"/>
        <c:crosses val="autoZero"/>
        <c:auto val="1"/>
        <c:lblAlgn val="ctr"/>
        <c:lblOffset val="100"/>
        <c:noMultiLvlLbl val="0"/>
      </c:catAx>
      <c:valAx>
        <c:axId val="66729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94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F35-4B0C-461D-9725-97DDB4BB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151-6A15-49EF-B8CB-1F06E8D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32A-69FD-4911-9171-272B6B93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BFF-1B8C-4BDA-95FE-67EFBD37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11B-CD6C-4B66-8E31-A723467B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564-0A40-4C21-A4F3-A7ADD2FF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5FB-EA83-4A28-A12C-A85193FF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A1B-A18C-4100-9069-E1288647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3BA-636E-4F1F-9B9C-0BAC93D2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9B7-301E-4FC6-946F-BCA7D4BB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720-6CA8-44C9-8995-604F5BC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646-1070-4B81-B71C-4C724B1C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6ECB2-6DAB-4E29-8820-FADC4040BF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